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23088" cy="9424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F54-5B7E-48CE-8F43-4E91C495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BC8-038C-43D8-8A18-2C023304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469-6C23-4D8E-9EEE-B6847D0C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D47-4463-42A7-87F5-B50B0BCB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DB56-B404-4268-B41C-2E243748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E73-B5F4-4574-A9AC-1AEA0434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868-4C47-4CA0-A6F9-B01A0348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A36-D9F8-476A-8C65-52261799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852-68EE-4582-92AF-00F7510B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F7DC-1D00-4396-8F56-CCADB68C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1FC-8260-44FC-A5CD-BD5C4EC8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F91-CA21-4777-B4E0-24993DFE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A488-BA13-4671-99CB-A9C27DE5F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562" t="8166" r="8594" b="52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42432" t="32293" r="18034" b="38544"/>
          <a:stretch/>
        </p:blipFill>
        <p:spPr>
          <a:xfrm>
            <a:off x="5562720" y="4724280"/>
            <a:ext cx="3581280" cy="2133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0" y="6216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g, Hutchins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chell.  BI 03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23:32:42Z</dcterms:created>
  <dc:creator>School of Computer Science</dc:creator>
  <dc:description/>
  <dc:language>en-US</dc:language>
  <cp:lastModifiedBy>School of Computer Science</cp:lastModifiedBy>
  <dcterms:modified xsi:type="dcterms:W3CDTF">2003-12-08T00:32:38Z</dcterms:modified>
  <cp:revision>2</cp:revision>
  <dc:subject/>
  <dc:title>Slide 1</dc:title>
</cp:coreProperties>
</file>